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ct" ContentType="image/x-pict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293C-B0F4-4340-B974-A8F46DCE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BE61-3868-4807-9A32-ACD5D32C7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0D4F-7CDF-4819-A530-7F0454D1D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611B-DE94-4D43-83E5-20437135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1BA-02D7-42AC-9205-A81033B5D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C5C-7622-4B69-87C2-439BCF10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87B-654F-4148-ACCE-A8B4A82B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964-3E6C-4E88-B557-663129ED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DB5-DE84-44BC-9BE0-86BEA95F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F58-7D44-4892-8A3C-D92CCE81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D66-F13C-4D1C-81F9-6F1D0BD0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94F-C3DA-4A2E-A4AB-B38A3724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DAF-D998-4AB8-A682-BADFAE17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34C-EFAE-4429-BBDB-44B4DD8C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757-AAF1-4DB3-B5FE-F153B826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485-5AAF-4154-8076-DF4B8CE4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EEF-618A-43B3-B232-9279882F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776D-9694-4357-A0EF-DFF3108F70AD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23800" y="1643040"/>
            <a:ext cx="839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 Tx by resection and chemotherapy, presents 7 yrs later with head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bifront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grade III 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96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s small high grade tumor in left parietal l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shows with grade IV tumor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Is cure possible?  How much is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447920" y="2217600"/>
            <a:ext cx="62578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st operative 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684440" y="2244600"/>
            <a:ext cx="5803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presented with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 gave a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immediate neurosurgical questions for managing this patient with low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7" name="Picture 7" descr="MPpreanatomy.tif"/>
          <p:cNvPicPr/>
          <p:nvPr/>
        </p:nvPicPr>
        <p:blipFill>
          <a:blip r:embed="rId1"/>
          <a:stretch/>
        </p:blipFill>
        <p:spPr>
          <a:xfrm>
            <a:off x="612720" y="2771640"/>
            <a:ext cx="8039160" cy="32893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8"/>
          <p:cNvCxnSpPr/>
          <p:nvPr/>
        </p:nvCxnSpPr>
        <p:spPr>
          <a:xfrm>
            <a:off x="1446840" y="3446280"/>
            <a:ext cx="89604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Box 9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T1+Gd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23800" y="164304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Low rCBV by DSC MR perfusion, no blood products except at biops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3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1857240" y="6060960"/>
            <a:ext cx="67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1643040"/>
            <a:ext cx="8166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left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iopsy: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ical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are surgical margins determ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How is the resection result evalu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Spreop.jpg"/>
          <p:cNvPicPr/>
          <p:nvPr/>
        </p:nvPicPr>
        <p:blipFill>
          <a:blip r:embed="rId1"/>
          <a:stretch/>
        </p:blipFill>
        <p:spPr>
          <a:xfrm>
            <a:off x="1371600" y="1600200"/>
            <a:ext cx="5477040" cy="451332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"/>
          <p:cNvCxnSpPr/>
          <p:nvPr/>
        </p:nvCxnSpPr>
        <p:spPr>
          <a:xfrm>
            <a:off x="335268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0" name="Straight Arrow Connector 4"/>
          <p:cNvCxnSpPr/>
          <p:nvPr/>
        </p:nvCxnSpPr>
        <p:spPr>
          <a:xfrm>
            <a:off x="3386160" y="4053960"/>
            <a:ext cx="80568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" name="Straight Arrow Connector 6"/>
          <p:cNvCxnSpPr/>
          <p:nvPr/>
        </p:nvCxnSpPr>
        <p:spPr>
          <a:xfrm>
            <a:off x="5138640" y="1844640"/>
            <a:ext cx="805680" cy="82296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2" name="Straight Arrow Connector 7"/>
          <p:cNvCxnSpPr/>
          <p:nvPr/>
        </p:nvCxnSpPr>
        <p:spPr>
          <a:xfrm>
            <a:off x="5184720" y="4053960"/>
            <a:ext cx="807120" cy="82332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" name="TextBox 8"/>
          <p:cNvSpPr/>
          <p:nvPr/>
        </p:nvSpPr>
        <p:spPr>
          <a:xfrm>
            <a:off x="2106720" y="3463920"/>
            <a:ext cx="43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1             T1+Gd           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2           T2-FLAIR         rC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2280" y="1066680"/>
            <a:ext cx="883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 year old female presenting with a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re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2: Post-op G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le 5"/>
          <p:cNvSpPr/>
          <p:nvPr/>
        </p:nvSpPr>
        <p:spPr>
          <a:xfrm>
            <a:off x="685800" y="7700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 (post)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1608120" y="1643040"/>
            <a:ext cx="5894280" cy="491004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 flipV="1">
            <a:off x="4876920" y="164268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surgeon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23800" y="1523880"/>
            <a:ext cx="8166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major behavioral changes and then 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mass in right hemisphere with hydrocephalus. Biopsy shows Grade II astrocy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What are the neurosurgeon’s goals for managing this patient with low grade infiltrating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ff04"/>
                </a:solidFill>
                <a:latin typeface="Arial"/>
              </a:rPr>
              <a:t>Is this resectable? Does it need debul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266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Grade II Oligoastrocytoma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3" name="Picture 3" descr="AMprepostRx.jpg"/>
          <p:cNvPicPr/>
          <p:nvPr/>
        </p:nvPicPr>
        <p:blipFill>
          <a:blip r:embed="rId1"/>
          <a:stretch/>
        </p:blipFill>
        <p:spPr>
          <a:xfrm>
            <a:off x="1641600" y="1978200"/>
            <a:ext cx="6635520" cy="4676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81360" y="2417760"/>
            <a:ext cx="155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e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ost 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562120" y="407844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T1+Gd                    T2-FL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7"/>
          <p:cNvCxnSpPr/>
          <p:nvPr/>
        </p:nvCxnSpPr>
        <p:spPr>
          <a:xfrm>
            <a:off x="3757680" y="1978200"/>
            <a:ext cx="805680" cy="71496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7" name="Straight Arrow Connector 8"/>
          <p:cNvCxnSpPr/>
          <p:nvPr/>
        </p:nvCxnSpPr>
        <p:spPr>
          <a:xfrm>
            <a:off x="5892840" y="1978200"/>
            <a:ext cx="80568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8" name="Straight Arrow Connector 9"/>
          <p:cNvCxnSpPr/>
          <p:nvPr/>
        </p:nvCxnSpPr>
        <p:spPr>
          <a:xfrm>
            <a:off x="1732320" y="1978200"/>
            <a:ext cx="678600" cy="724320"/>
          </a:xfrm>
          <a:prstGeom prst="straightConnector1">
            <a:avLst/>
          </a:prstGeom>
          <a:ln w="66600">
            <a:solidFill>
              <a:srgbClr val="ff0609"/>
            </a:solidFill>
            <a:miter/>
            <a:tailEnd len="med" type="triangle" w="med"/>
          </a:ln>
        </p:spPr>
      </p:cxnSp>
      <p:cxnSp>
        <p:nvCxnSpPr>
          <p:cNvPr id="89" name="Straight Arrow Connector 10"/>
          <p:cNvCxnSpPr/>
          <p:nvPr/>
        </p:nvCxnSpPr>
        <p:spPr>
          <a:xfrm flipH="1" flipV="1">
            <a:off x="7686360" y="6019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0" name="Straight Arrow Connector 15"/>
          <p:cNvCxnSpPr/>
          <p:nvPr/>
        </p:nvCxnSpPr>
        <p:spPr>
          <a:xfrm flipH="1" flipV="1">
            <a:off x="7681680" y="3733200"/>
            <a:ext cx="543600" cy="432360"/>
          </a:xfrm>
          <a:prstGeom prst="straightConnector1">
            <a:avLst/>
          </a:prstGeom>
          <a:ln w="66600">
            <a:solidFill>
              <a:srgbClr val="ff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36Z</dcterms:modified>
  <cp:revision>80</cp:revision>
  <dc:subject/>
  <dc:title>PowerPoint Presentation</dc:title>
</cp:coreProperties>
</file>